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A2B5A-198D-4D82-A0CA-CEFCCD1D9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8B9B4-43C0-4C71-A5F5-469C5DFC0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563B9-B2F9-4F49-BB1E-8B0E170F4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D21DB-4B3C-4E36-8F1F-9D640BBDB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DB01B-04DF-412A-B5FF-D8D3BF069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CB793-98AD-49C2-9236-E7182EADA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65D0B-9C04-4FA2-8A84-A160037B6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E30B5-2029-4F25-B18B-C687C2BC2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0567B-3BEF-401A-B9DF-06E5B4A60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D51F3-4BAC-4AA4-923D-2E29C35F7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A7163-A06C-4342-9670-7E28F1AF6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E3D20-62E0-4110-B5C8-08998C19A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AA806-74D6-46E0-BB26-77CF8FA6FA0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4400" spc="-1" strike="noStrike">
                <a:solidFill>
                  <a:srgbClr val="ffffff"/>
                </a:solidFill>
                <a:latin typeface="Arial"/>
              </a:rPr>
              <a:t>«Кое» проек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«Цилиндр» темасы буенча эшлекле уе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660066"/>
                </a:solidFill>
                <a:latin typeface="Arial"/>
              </a:rPr>
              <a:t>Проектлау б</a:t>
            </a:r>
            <a:r>
              <a:rPr b="1" i="1" lang="tt-RU" sz="4400" spc="-1" strike="noStrike">
                <a:solidFill>
                  <a:srgbClr val="660066"/>
                </a:solidFill>
                <a:latin typeface="Arial"/>
              </a:rPr>
              <a:t>үлег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228600" y="837720"/>
            <a:ext cx="601992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иаметры 80 см һәм  тирәнлеге  25 м   булган кое казырга, ә искесен   күмәргә кирәк .  Әгәр иске коеның диаметры 1м, ә тирәнлеге 16 м булса , яңа коедан чыккан туфрак искесен күмәр өчен җитәрм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Әгәр, һәр атна саен су сибү өчен күчәр кисеме 2м</a:t>
            </a:r>
            <a:r>
              <a:rPr b="1" lang="ru-RU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һәм диаметры 2метрга тигез булган ц</a:t>
            </a:r>
            <a:r>
              <a:rPr b="1" lang="tt-RU" sz="2000" spc="-1" strike="noStrike">
                <a:solidFill>
                  <a:srgbClr val="000000"/>
                </a:solidFill>
                <a:latin typeface="Arial"/>
              </a:rPr>
              <a:t>илиндр формасындагы тәпәнне су белән тутырырга кирәк булса,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бакчада   3 айлык  (12 </a:t>
            </a:r>
            <a:r>
              <a:rPr b="1" lang="tt-RU" sz="2000" spc="-1" strike="noStrike">
                <a:solidFill>
                  <a:srgbClr val="000000"/>
                </a:solidFill>
                <a:latin typeface="Arial"/>
              </a:rPr>
              <a:t>атна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), су чыгымын исәпләргә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000" spc="-1" strike="noStrike">
                <a:solidFill>
                  <a:srgbClr val="000000"/>
                </a:solidFill>
                <a:latin typeface="Arial"/>
              </a:rPr>
              <a:t>Атна саен 10 м</a:t>
            </a:r>
            <a:r>
              <a:rPr b="1" lang="tt-RU" sz="2000" spc="-1" strike="noStrike" baseline="30000">
                <a:solidFill>
                  <a:srgbClr val="000000"/>
                </a:solidFill>
                <a:latin typeface="Arial"/>
              </a:rPr>
              <a:t>3  </a:t>
            </a:r>
            <a:r>
              <a:rPr b="1" lang="tt-RU" sz="2000" spc="-1" strike="noStrike">
                <a:solidFill>
                  <a:srgbClr val="000000"/>
                </a:solidFill>
                <a:latin typeface="Arial"/>
              </a:rPr>
              <a:t>суның көндәлек кирәк- яракларга китүен дә исәпкә алырга кирәк. Әгәр 1 м</a:t>
            </a:r>
            <a:r>
              <a:rPr b="1" lang="tt-RU" sz="2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tt-RU" sz="2000" spc="-1" strike="noStrike">
                <a:solidFill>
                  <a:srgbClr val="000000"/>
                </a:solidFill>
                <a:latin typeface="Arial"/>
              </a:rPr>
              <a:t> су – 23.5 сум торса, гаиләнең бер сезонга су өчен күпме акча тотуын исәпләргә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8" descr="C:\Users\админ\Desktop\Новая папка (6)\kolodets-stat-2-3.jpg"/>
          <p:cNvPicPr/>
          <p:nvPr/>
        </p:nvPicPr>
        <p:blipFill>
          <a:blip r:embed="rId1"/>
          <a:srcRect l="8003" t="0" r="12000" b="0"/>
          <a:stretch/>
        </p:blipFill>
        <p:spPr>
          <a:xfrm>
            <a:off x="6095880" y="3657600"/>
            <a:ext cx="3048120" cy="32004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9" descr="C:\Users\админ\Desktop\Новая папка (6)\nakopitelniy_bak_dlya_vody_.jpg"/>
          <p:cNvPicPr/>
          <p:nvPr/>
        </p:nvPicPr>
        <p:blipFill>
          <a:blip r:embed="rId2"/>
          <a:stretch/>
        </p:blipFill>
        <p:spPr>
          <a:xfrm>
            <a:off x="6019920" y="685800"/>
            <a:ext cx="3124080" cy="31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7030a0"/>
                </a:solidFill>
                <a:latin typeface="Arial"/>
              </a:rPr>
              <a:t>Икътисад  бүлег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304560" y="1066320"/>
            <a:ext cx="601956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kk-KZ" sz="2000" spc="-1" strike="noStrike">
                <a:solidFill>
                  <a:srgbClr val="000000"/>
                </a:solidFill>
                <a:latin typeface="Arial"/>
              </a:rPr>
              <a:t>Гаиләг</a:t>
            </a:r>
            <a:r>
              <a:rPr b="1" lang="tt-RU" sz="2000" spc="-1" strike="noStrike">
                <a:solidFill>
                  <a:srgbClr val="000000"/>
                </a:solidFill>
                <a:latin typeface="Arial"/>
              </a:rPr>
              <a:t>ә</a:t>
            </a:r>
            <a:r>
              <a:rPr b="1" lang="kk-KZ" sz="2000" spc="-1" strike="noStrike">
                <a:solidFill>
                  <a:srgbClr val="000000"/>
                </a:solidFill>
                <a:latin typeface="Arial"/>
              </a:rPr>
              <a:t> яңа кое казу һәм аны  деко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000000"/>
                </a:solidFill>
                <a:latin typeface="Arial"/>
              </a:rPr>
              <a:t>ратив бизәү ничә сумга төшүен санарга: әгәр </a:t>
            </a:r>
            <a:r>
              <a:rPr b="1" lang="tt-RU" sz="2000" spc="-1" strike="noStrike">
                <a:solidFill>
                  <a:srgbClr val="000000"/>
                </a:solidFill>
                <a:latin typeface="Arial"/>
              </a:rPr>
              <a:t>коеның</a:t>
            </a:r>
            <a:r>
              <a:rPr b="1" lang="kk-KZ" sz="2000" spc="-1" strike="noStrike">
                <a:solidFill>
                  <a:srgbClr val="000000"/>
                </a:solidFill>
                <a:latin typeface="Arial"/>
              </a:rPr>
              <a:t>  диаметры 0,8 м</a:t>
            </a:r>
            <a:r>
              <a:rPr b="1" lang="tt-RU" sz="2000" spc="-1" strike="noStrike">
                <a:solidFill>
                  <a:srgbClr val="000000"/>
                </a:solidFill>
                <a:latin typeface="Arial"/>
              </a:rPr>
              <a:t>,  тирәнлеге 25 м булган </a:t>
            </a:r>
            <a:r>
              <a:rPr b="1" lang="kk-KZ" sz="2000" spc="-1" strike="noStrike">
                <a:solidFill>
                  <a:srgbClr val="000000"/>
                </a:solidFill>
                <a:latin typeface="Arial"/>
              </a:rPr>
              <a:t>1 метр скважина казу  500 сум торуын ис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әпкә алырга</a:t>
            </a:r>
            <a:r>
              <a:rPr b="1" lang="tt-RU" sz="20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kk-K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tt-RU" sz="20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1" lang="kk-KZ" sz="2000" spc="-1" strike="noStrike">
                <a:solidFill>
                  <a:srgbClr val="000000"/>
                </a:solidFill>
                <a:latin typeface="Arial"/>
              </a:rPr>
              <a:t>екоратив бизәкләү: цилиндр формасын-дагы коеның тышкы ягын</a:t>
            </a:r>
            <a:r>
              <a:rPr b="1" lang="tt-RU" sz="2000" spc="-1" strike="noStrike">
                <a:solidFill>
                  <a:srgbClr val="000000"/>
                </a:solidFill>
                <a:latin typeface="Arial"/>
              </a:rPr>
              <a:t>ың</a:t>
            </a:r>
            <a:r>
              <a:rPr b="1" lang="kk-KZ" sz="2000" spc="-1" strike="noStrike">
                <a:solidFill>
                  <a:srgbClr val="000000"/>
                </a:solidFill>
                <a:latin typeface="Arial"/>
              </a:rPr>
              <a:t> биеклеге 1 метр бу</a:t>
            </a:r>
            <a:r>
              <a:rPr b="1" lang="tt-RU" sz="2000" spc="-1" strike="noStrike">
                <a:solidFill>
                  <a:srgbClr val="000000"/>
                </a:solidFill>
                <a:latin typeface="Arial"/>
              </a:rPr>
              <a:t>л</a:t>
            </a:r>
            <a:r>
              <a:rPr b="1" lang="kk-KZ" sz="2000" spc="-1" strike="noStrike">
                <a:solidFill>
                  <a:srgbClr val="000000"/>
                </a:solidFill>
                <a:latin typeface="Arial"/>
              </a:rPr>
              <a:t>ган өлешне</a:t>
            </a:r>
            <a:r>
              <a:rPr b="1" lang="tt-RU" sz="2000" spc="-1" strike="noStrike">
                <a:solidFill>
                  <a:srgbClr val="000000"/>
                </a:solidFill>
                <a:latin typeface="Arial"/>
              </a:rPr>
              <a:t>ң</a:t>
            </a:r>
            <a:r>
              <a:rPr b="1" lang="kk-KZ" sz="2000" spc="-1" strike="noStrike">
                <a:solidFill>
                  <a:srgbClr val="000000"/>
                </a:solidFill>
                <a:latin typeface="Arial"/>
              </a:rPr>
              <a:t> размеры 0,15 х 0,15 метр</a:t>
            </a:r>
            <a:r>
              <a:rPr b="1" lang="tt-RU" sz="2000" spc="-1" strike="noStrike">
                <a:solidFill>
                  <a:srgbClr val="000000"/>
                </a:solidFill>
                <a:latin typeface="Arial"/>
              </a:rPr>
              <a:t> зурлыгындагы</a:t>
            </a:r>
            <a:r>
              <a:rPr b="1" lang="kk-KZ" sz="2000" spc="-1" strike="noStrike">
                <a:solidFill>
                  <a:srgbClr val="000000"/>
                </a:solidFill>
                <a:latin typeface="Arial"/>
              </a:rPr>
              <a:t> берсе 50 сум торган плитка </a:t>
            </a:r>
            <a:r>
              <a:rPr b="1" lang="tt-RU" sz="2000" spc="-1" strike="noStrike">
                <a:solidFill>
                  <a:srgbClr val="000000"/>
                </a:solidFill>
                <a:latin typeface="Arial"/>
              </a:rPr>
              <a:t>ябыштырырг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000" spc="-1" strike="noStrike">
                <a:solidFill>
                  <a:srgbClr val="000000"/>
                </a:solidFill>
                <a:latin typeface="Arial"/>
              </a:rPr>
              <a:t>Кое кырыйлап киңлеге 1 метр булган юл-ның</a:t>
            </a:r>
            <a:r>
              <a:rPr b="1" lang="kk-KZ" sz="2000" spc="-1" strike="noStrike">
                <a:solidFill>
                  <a:srgbClr val="000000"/>
                </a:solidFill>
                <a:latin typeface="Arial"/>
              </a:rPr>
              <a:t> размерлары 0,25 х 0,25 метр,  берсе 70 сум торган плитка белән эшләп чыгу;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0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1" lang="kk-KZ" sz="2000" spc="-1" strike="noStrike">
                <a:solidFill>
                  <a:srgbClr val="000000"/>
                </a:solidFill>
                <a:latin typeface="Arial"/>
              </a:rPr>
              <a:t>оены агач белән эшләү өчен 3000 сум кирәклеген дә исәпләргә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өзү материалларының кыйммәтен  исәпкә  алырг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C:\Users\админ\Desktop\Новая папка (6)\05.jpg"/>
          <p:cNvPicPr/>
          <p:nvPr/>
        </p:nvPicPr>
        <p:blipFill>
          <a:blip r:embed="rId1"/>
          <a:srcRect l="20835" t="9288" r="22500" b="0"/>
          <a:stretch/>
        </p:blipFill>
        <p:spPr>
          <a:xfrm>
            <a:off x="6400800" y="1066680"/>
            <a:ext cx="274320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2743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7030a0"/>
                </a:solidFill>
                <a:latin typeface="Arial"/>
              </a:rPr>
              <a:t>Монтаж-транспорт бүлег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304560" y="1523520"/>
            <a:ext cx="88390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е казу өчен чыгымнарны исәпләү: (таблиц</a:t>
            </a:r>
            <a:r>
              <a:rPr b="1" lang="tt-RU" sz="2800" spc="-1" strike="noStrike">
                <a:solidFill>
                  <a:srgbClr val="000000"/>
                </a:solidFill>
                <a:latin typeface="Arial"/>
              </a:rPr>
              <a:t>а буенча кирәкле фирманы табу)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өзү материаллары сатып алу, алып кайту һәм җыю;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еның  размерлары : диаметры- 0,8 метр ,  тирәнлеге- 25 метр;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уфракның үзенчәлеге:  7 метрга кадәр көпшәк туфрак. Аларны бетон боҗралар белән ныгытырга һәм җир өслегенннән 1 метр биеклектә декоратив бизәү өлешенә дә боҗра кирәклеген онытмаска кирәк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7030a0"/>
                </a:solidFill>
                <a:latin typeface="Arial"/>
              </a:rPr>
              <a:t>Таблиц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304920" y="1600200"/>
          <a:ext cx="8839080" cy="5172120"/>
        </p:xfrm>
        <a:graphic>
          <a:graphicData uri="http://schemas.openxmlformats.org/drawingml/2006/table">
            <a:tbl>
              <a:tblPr/>
              <a:tblGrid>
                <a:gridCol w="1241280"/>
                <a:gridCol w="1239840"/>
                <a:gridCol w="1241280"/>
                <a:gridCol w="1241640"/>
                <a:gridCol w="1241280"/>
                <a:gridCol w="1239840"/>
                <a:gridCol w="1393920"/>
              </a:tblGrid>
              <a:tr h="1000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571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рм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60066">
                        <a:alpha val="17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571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җра размеры  (м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60066">
                        <a:alpha val="17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571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боҗра бәясе (сумнарда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60066">
                        <a:alpha val="17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571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машинага сыйган боҗралар сан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60066">
                        <a:alpha val="17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571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өяү һәм бушату (сумнарда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60066">
                        <a:alpha val="17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571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боҗраны монтажлау бәясе (сумнарда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60066">
                        <a:alpha val="17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571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Өстәмә шартлар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60066">
                        <a:alpha val="17000"/>
                      </a:srgbClr>
                    </a:solidFill>
                  </a:tcPr>
                </a:tc>
              </a:tr>
              <a:tr h="7524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571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0066">
                        <a:alpha val="17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571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8х1,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0066">
                        <a:alpha val="17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571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0066">
                        <a:alpha val="17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571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0066">
                        <a:alpha val="17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571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0066">
                        <a:alpha val="17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571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0066">
                        <a:alpha val="17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571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0066">
                        <a:alpha val="17000"/>
                      </a:srgbClr>
                    </a:solidFill>
                  </a:tcPr>
                </a:tc>
              </a:tr>
              <a:tr h="6858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571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0066">
                        <a:alpha val="17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571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8х1,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0066">
                        <a:alpha val="17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571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0066">
                        <a:alpha val="17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571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0066">
                        <a:alpha val="17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571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0066">
                        <a:alpha val="17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571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0066">
                        <a:alpha val="17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571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0066">
                        <a:alpha val="17000"/>
                      </a:srgbClr>
                    </a:solidFill>
                  </a:tcPr>
                </a:tc>
              </a:tr>
              <a:tr h="27338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571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0066">
                        <a:alpha val="17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571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8х1,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0066">
                        <a:alpha val="17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571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0066">
                        <a:alpha val="17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571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0066">
                        <a:alpha val="17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571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0066">
                        <a:alpha val="17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571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0066">
                        <a:alpha val="17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571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571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0 сумнан артса    һәр 3 нче машинаны төяү һәм бушату бушлай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0066">
                        <a:alpha val="17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7030a0"/>
                </a:solidFill>
                <a:latin typeface="Arial"/>
              </a:rPr>
              <a:t> </a:t>
            </a:r>
            <a:r>
              <a:rPr b="1" i="1" lang="ru-RU" sz="4400" spc="-1" strike="noStrike">
                <a:solidFill>
                  <a:srgbClr val="7030a0"/>
                </a:solidFill>
                <a:latin typeface="Arial"/>
              </a:rPr>
              <a:t>Үзеңнең мөмкинлекләреңне бәялә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200" spc="-1" strike="noStrike">
                <a:solidFill>
                  <a:srgbClr val="000000"/>
                </a:solidFill>
                <a:latin typeface="Arial"/>
              </a:rPr>
              <a:t>1. Бүген дәрестә мин.......... белдем</a:t>
            </a:r>
            <a:r>
              <a:rPr b="1" lang="kk-KZ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000000"/>
                </a:solidFill>
                <a:latin typeface="Arial"/>
              </a:rPr>
              <a:t>2. Миңа …      охшад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kk-KZ" sz="3200" spc="-1" strike="noStrike">
                <a:solidFill>
                  <a:srgbClr val="000000"/>
                </a:solidFill>
                <a:latin typeface="Arial"/>
              </a:rPr>
              <a:t>3.  …       авыр булд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kk-KZ" sz="32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Хәзер мин…     ал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5. Дәрес миңа …    бирд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4400" spc="-1" strike="noStrike">
                <a:solidFill>
                  <a:srgbClr val="7030a0"/>
                </a:solidFill>
                <a:latin typeface="Arial"/>
              </a:rPr>
              <a:t>Өй эш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3885840" y="1600200"/>
            <a:ext cx="4800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абатларга</a:t>
            </a:r>
            <a:r>
              <a:rPr b="1" lang="kk-K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k-KZ" sz="3200" spc="-1" strike="noStrike">
                <a:solidFill>
                  <a:srgbClr val="000000"/>
                </a:solidFill>
                <a:latin typeface="Arial"/>
              </a:rPr>
              <a:t>–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63-164бит, </a:t>
            </a:r>
            <a:r>
              <a:rPr b="0" lang="kk-K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.77, 178бит, сорау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kk-KZ" sz="3200" spc="-1" strike="noStrike">
                <a:solidFill>
                  <a:srgbClr val="000000"/>
                </a:solidFill>
                <a:latin typeface="Arial"/>
              </a:rPr>
              <a:t>Эшләргә</a:t>
            </a:r>
            <a:r>
              <a:rPr b="0" lang="kk-KZ" sz="3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№669</a:t>
            </a:r>
            <a:r>
              <a:rPr b="0" lang="kk-KZ" sz="3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0" lang="kk-KZ" sz="3200" spc="-1" strike="noStrike">
                <a:solidFill>
                  <a:srgbClr val="000000"/>
                </a:solidFill>
                <a:latin typeface="Arial"/>
              </a:rPr>
              <a:t>5 бит),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№745</a:t>
            </a:r>
            <a:r>
              <a:rPr b="0" lang="kk-KZ" sz="3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80 бит</a:t>
            </a:r>
            <a:r>
              <a:rPr b="0" lang="kk-KZ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3" descr="C:\Users\админ\Desktop\Новая папка (6)\0a1713744fa00bee6bfc9cff0f01225a.jpeg"/>
          <p:cNvPicPr/>
          <p:nvPr/>
        </p:nvPicPr>
        <p:blipFill>
          <a:blip r:embed="rId1"/>
          <a:stretch/>
        </p:blipFill>
        <p:spPr>
          <a:xfrm>
            <a:off x="304920" y="1523880"/>
            <a:ext cx="393228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i="1" lang="ru-RU" sz="4400" spc="-1" strike="noStrike">
                <a:solidFill>
                  <a:srgbClr val="002060"/>
                </a:solidFill>
                <a:latin typeface="Arial"/>
              </a:rPr>
              <a:t>Үзеңнең кәефеңне бәялә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" descr="RmIdoTUiDVc"/>
          <p:cNvPicPr/>
          <p:nvPr/>
        </p:nvPicPr>
        <p:blipFill>
          <a:blip r:embed="rId1"/>
          <a:stretch/>
        </p:blipFill>
        <p:spPr>
          <a:xfrm>
            <a:off x="1547640" y="1600200"/>
            <a:ext cx="60487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7030a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3808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кырга да укырга әле…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3" descr="C:\Users\админ\Desktop\Новая папка (6)\98417083634dd2a8a858dbc5d349e54a0976a6ba26_b - копия.jpg"/>
          <p:cNvPicPr/>
          <p:nvPr/>
        </p:nvPicPr>
        <p:blipFill>
          <a:blip r:embed="rId1"/>
          <a:stretch/>
        </p:blipFill>
        <p:spPr>
          <a:xfrm>
            <a:off x="380880" y="1600200"/>
            <a:ext cx="762120" cy="8874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6" descr="C:\Users\админ\Desktop\Новая папка (6)\98417083634dd2a8a858dbc5d349e54a0976a6ba26_b - копия (3).jpg"/>
          <p:cNvPicPr/>
          <p:nvPr/>
        </p:nvPicPr>
        <p:blipFill>
          <a:blip r:embed="rId2"/>
          <a:stretch/>
        </p:blipFill>
        <p:spPr>
          <a:xfrm>
            <a:off x="457200" y="3505320"/>
            <a:ext cx="826920" cy="9633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 txBox="1"/>
          <p:nvPr/>
        </p:nvSpPr>
        <p:spPr>
          <a:xfrm>
            <a:off x="457200" y="160020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әрес файдалы, барысы да аңлашы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Учитель</dc:creator>
  <dc:description/>
  <dc:language>en-US</dc:language>
  <cp:lastModifiedBy>Рамиль</cp:lastModifiedBy>
  <dcterms:modified xsi:type="dcterms:W3CDTF">2014-02-04T15:01:45Z</dcterms:modified>
  <cp:revision>3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